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BFE-B9E1-450A-A461-5A387C16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931-FCDE-4839-BD02-0C29FAC4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A1B-7D85-497C-BCF0-FA6B1327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8E6-8A20-4C56-8D72-2A25D405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71D-D08C-4815-B652-2E4A0F5E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F22-B398-46CE-B331-6A0DB29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49F-0F6D-4F2D-B60C-95BD8ECE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D14-72EC-4ED7-8F18-2EA45EBB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2F8-DEC1-4496-8EE0-C60810E3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13A-C8A6-4BC6-8E05-E4E20E7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5C8-F8C7-4D92-98EC-FEEF4A0E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BD2-1CB7-4E3D-9B87-DC9B2614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8647-E6A5-474F-ADB3-F0FC41FE2B7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 Dnes vďaky spev vrel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vďaky spev vrel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nie svetom cel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ť oslavná p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ž pred Boží tr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v láske sa skláň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ar požehna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nám všetkým dopri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dni sobotn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z výšin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rád vždy čo tr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ie nad nami ver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ždy pri nás stá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 ohnivým stĺp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d ľstivým zvod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na ceste žit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ochraň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Tvorcovej mo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t hviezd v tmavej no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slnka lúč jas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dne hovo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rosy skvost v tráv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vlnky riek hrav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a náhl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iečišťami do mo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 každý ho chvá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veľký či ma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my Tvorcu chváľ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velebu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al nám dar vie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čaká nás v cie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ždy vďač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ho nasledujm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01:47Z</dcterms:modified>
  <cp:revision>32</cp:revision>
  <dc:subject/>
  <dc:title>Je veľký náš Pán, on slávy je Kráľ Nech do všetkých strán  spev vrúcnych znie chvál.</dc:title>
</cp:coreProperties>
</file>